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8DA-BD25-4449-92C6-35988FD5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AF6-5B8E-48B7-8E40-3556FC1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79A-E334-4009-B7E2-6F1DA521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8CB-874B-41D2-9923-50A8AED2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286-49DF-443E-A8D4-F2BD8024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2B2-47D7-4291-8A86-5A975908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9A3-13D9-4CAD-B506-FAC7787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1A6-68E5-473B-958E-19AD1CF6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668-7459-4EB8-B614-0EE92E6E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008-8BF7-419A-BB52-3011CE7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C3E-D049-43CF-BBFC-BB253D9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3DE-BCC4-4791-BE8B-3B6C9CE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E8DE-12E2-4BA3-A169-0718B3BE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ot Book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10552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Books Is th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setback explains approximately 80% of the reading achievement gap between poor and nonpoor students at age 14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rom low-income families do not have the same access to reading materials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Research Evid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ing low-income students with easy access to books increases summer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2001 to 2004 studies were conduced to prove th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paperback books were given to 842 randomly selected primary-grade students eligible for free or reduced-prices meals in 17 high-poverty elementary schools. (Books were self sel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it work!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is: Y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, reading achievement was comp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received summer books had significantly higher reading achievement levels (p=.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n overall reading achievement effect side of .14 which was statistically signific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395800" cy="18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429000"/>
            <a:ext cx="64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Books Into Students’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 access to school book collections.  (Let students in during the summer months!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school budget to include more money for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95840" y="2838600"/>
            <a:ext cx="2604960" cy="118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38680" y="49719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 the role of popular culture in student’s lives. (Let them read what they w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local knowledge. (Where do your student’s live? What are they interested in? What effects them personall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1824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tudents need to enjoy reading. Do not make it into a ch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tudents to choose independent reading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udents learn how to find books on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ays to make books more accessible to your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4:22:29Z</dcterms:created>
  <dc:creator>North Rockland Schools</dc:creator>
  <dc:description/>
  <dc:language>en-US</dc:language>
  <cp:lastModifiedBy>North Rockland High School</cp:lastModifiedBy>
  <dcterms:modified xsi:type="dcterms:W3CDTF">2009-12-03T14:04:58Z</dcterms:modified>
  <cp:revision>3</cp:revision>
  <dc:subject/>
  <dc:title>Got Books? By Anne McGill-Franzen and Richard Allington</dc:title>
</cp:coreProperties>
</file>